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E96-C1BD-478E-9CC8-F6485824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76B-6340-4B42-84F2-EAD5ECC1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6C0CF-1C5F-45D1-837A-376D71AB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1D178-7EBA-4A3A-A33C-0BDD3C4E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56707-32E1-4908-A27F-EA1C5596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1F85C-C9CB-4101-AFC0-0D7A03F1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89B9A-76F9-46B8-A3E8-AF6016DF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775E5-4084-4B14-958A-105C3485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6A308-A4BE-424D-B607-A081B64E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50EBF-7F24-49FE-8732-65D77B90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B795E-98B5-4A17-A1B1-B2C701AE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512-903A-4552-9151-2A2DD527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9FB-9B20-4E52-A72E-B2A27C0B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EF32-C2C5-4F20-83CD-A5AB3C7F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A0E3-0164-42BB-AE3F-BE06F194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B559-FFED-4481-A1DB-74026424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45F6-83B9-4D06-9FAD-87D274D3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39D1-7FE5-4003-96A5-910AAC54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BFCB-9C04-4891-8F5B-ECA9D988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5BDA-CD28-4E50-A59B-E8B35A3E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F95-92FE-4FCC-BE1D-867C1755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1F20-E623-43C2-B867-DFFFEB4C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0AAB-A5C0-405F-BCA7-B0C35061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258F-030E-468A-8A3E-601CC4CF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940E-E942-4AA4-8E2B-55C223F8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4F5B-50E6-49C9-B8E7-6DCB226C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5FAD1-BBCC-406A-85B9-86C43FA6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9509E-F651-49BB-9D3E-6E567FB7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253D-D281-40CA-AE16-F77C6319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609A3-C5BA-48F4-8AB9-D87DFEB8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43E7-09E0-4976-86C4-95D4E9A9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D11-FBCF-4AED-812E-2B799172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31532-2988-46CD-AC04-20045899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69A9-8D52-4DBF-B541-057A3398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BBBA7-CA9B-4FFA-9518-D239A2CF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048E-3DB8-4201-944D-49BA0DC8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031D9-564F-41B9-9458-6061D1DF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92C85-B2E3-47CE-B3FD-B94948B9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42D1-30F0-470E-9A6D-68FF1946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A7E04-1FB3-44F0-A4B7-2DFAAB25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8EAF5-2799-45AF-AC10-B6C7F9F5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F41E8-CCC6-42E1-A425-76110258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8F1-2EFB-468D-8654-646D7D24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ACA7F-F538-4CFF-96FA-63EEB47F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08AC2-E207-4818-AE29-5AAC2E62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21331-D382-45CE-A138-66E826FD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22874-40C1-442F-B435-68B55688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3E455-7D04-44C8-B87D-89AB5D45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AA5FB-E41A-4517-A33F-2FEF246B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0AE34-1717-4F53-B7AD-3E0FC6F0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66EB5-E1A5-4856-BD4E-00CA6B3E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115C8-D0AD-45B2-9003-6A0C4BED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8BBAA-8A12-4598-9CCC-FD0A1B6B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01D-97F7-479A-9DB8-B167D7F5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261BB-871C-4471-B420-E39EA067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20A9D-04D0-4E99-8A70-9A3CDD86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93EB4-69CA-4FC6-A40C-C6CED122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C0B50-3552-4779-954C-44583F3B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F36F8-6005-4068-AF49-0E4CC15E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59C1F-E1D0-41EF-AEB6-2AA4E453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AE458-03BE-4EB1-B87D-204BC37E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9B694-C312-4381-AD37-4E84E9EF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8A688-4B3D-4336-9A1B-EB4D5978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8F01D-B542-4231-A89F-C9750EA5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AAF-C12C-40AB-95DB-9FFF6703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AA839-67D5-478B-8375-3427FA0E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D475B-1A16-40DA-B48A-52488960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BC648-6FE0-4BEA-ACB8-3BB0796D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47D4C-C93C-4C8A-9C07-A36E8BA1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A3E32-DC92-4D12-ACC8-4AEA09D1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92ACA-0C72-45BA-ADC4-D156AC86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DF131-E755-4FF5-A975-B4440E65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F478B-0C17-4463-876F-7C21AAF9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2F572-E299-40E2-B736-7975E42B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FF1FD-140F-4572-A324-3A75BFF0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110-3FD6-4454-BD76-C5F766C6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3C32A-FAB5-4982-A036-94F009B4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33A66-2C10-4305-946A-4A2B7954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43586-83CC-478C-9C7E-51A936FC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16F7E-E6C9-4EBB-94A8-C9EE22FD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7574C-33AD-41CE-A11F-D21D9040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1334E5-7B10-432D-B35D-021D09C7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A9994-C868-4015-AB78-2351BE51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C4C91-F71C-489C-AC1F-07CCF5E3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A7D89-F4A4-4196-9EA5-272E4174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003AA9-0146-4FDF-8580-C482EDAC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954-70F9-479E-BB5E-CC2CA7A3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BBB46-5DB7-478A-A07E-85E9CC1E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1A639-21BC-4D9A-BCCF-02DB25D5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80ACAA-19E2-4840-85B6-7EE14B26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1E7FB-DB03-44EB-8731-07844A21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228622-61C8-4E5B-BF7F-E4EDCF58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429BC-3A72-498F-AD27-76D3038E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FED2A-8366-4639-8366-F416EAD0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D1AFF-6C97-42AE-B8F0-57A4FAAA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E05C1-497F-42C4-9AE5-C70632E3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7EF8F-15C6-4D86-8B52-E7645760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BC4-5811-4E5B-AB5F-E506D51F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B8E3C-C275-4DAF-83BB-EDE97E42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BF552-24C3-4224-A141-82359B6E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7D742-85B1-42CD-A4D3-F71B1CD6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1BF57-52B7-4A4C-ADF1-D95991F8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8635E-1C01-46DC-9ABD-3A123070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499CB-3603-4B4B-93BF-8A02D9B4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D6CEB-9F29-4B2C-9171-7458C724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C124D-22A1-448B-9B38-DC730C7C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10C3F-D44D-4434-8BDE-B20D89D6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3EBE0-76CF-4F46-AE95-F5A36656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C32D-1FFE-4FE9-9914-CA848DB26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7F3E-DF39-4B7F-BD85-9A5186C4F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BA14-8B3E-4D49-AAF8-DF769C6E1A6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02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168320" y="-83520"/>
            <a:ext cx="2433960" cy="2255760"/>
            <a:chOff x="7168320" y="-83520"/>
            <a:chExt cx="2433960" cy="2255760"/>
          </a:xfrm>
        </p:grpSpPr>
        <p:grpSp>
          <p:nvGrpSpPr>
            <p:cNvPr id="121" name=""/>
            <p:cNvGrpSpPr/>
            <p:nvPr/>
          </p:nvGrpSpPr>
          <p:grpSpPr>
            <a:xfrm>
              <a:off x="7168320" y="-83520"/>
              <a:ext cx="2433960" cy="2255760"/>
              <a:chOff x="7168320" y="-83520"/>
              <a:chExt cx="2433960" cy="2255760"/>
            </a:xfrm>
          </p:grpSpPr>
          <p:sp>
            <p:nvSpPr>
              <p:cNvPr id="122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7168320" y="-83520"/>
                <a:ext cx="2433960" cy="2255760"/>
                <a:chOff x="7168320" y="-83520"/>
                <a:chExt cx="2433960" cy="2255760"/>
              </a:xfrm>
            </p:grpSpPr>
            <p:sp>
              <p:nvSpPr>
                <p:cNvPr id="124" name="未知"/>
                <p:cNvSpPr/>
                <p:nvPr/>
              </p:nvSpPr>
              <p:spPr>
                <a:xfrm rot="18427200">
                  <a:off x="7867800" y="113400"/>
                  <a:ext cx="2451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未知"/>
                <p:cNvSpPr/>
                <p:nvPr/>
              </p:nvSpPr>
              <p:spPr>
                <a:xfrm rot="18427200">
                  <a:off x="7997400" y="518760"/>
                  <a:ext cx="4312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未知"/>
                <p:cNvSpPr/>
                <p:nvPr/>
              </p:nvSpPr>
              <p:spPr>
                <a:xfrm rot="18427200">
                  <a:off x="7694280" y="281520"/>
                  <a:ext cx="80892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未知"/>
                <p:cNvSpPr/>
                <p:nvPr/>
              </p:nvSpPr>
              <p:spPr>
                <a:xfrm rot="18427200">
                  <a:off x="7777800" y="-21960"/>
                  <a:ext cx="1214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未知"/>
                <p:cNvSpPr/>
                <p:nvPr/>
              </p:nvSpPr>
              <p:spPr>
                <a:xfrm rot="18427200">
                  <a:off x="8394120" y="1421640"/>
                  <a:ext cx="2703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未知"/>
                <p:cNvSpPr/>
                <p:nvPr/>
              </p:nvSpPr>
              <p:spPr>
                <a:xfrm rot="18427200">
                  <a:off x="8323560" y="1275840"/>
                  <a:ext cx="29016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未知"/>
                <p:cNvSpPr/>
                <p:nvPr/>
              </p:nvSpPr>
              <p:spPr>
                <a:xfrm rot="18427200">
                  <a:off x="7897680" y="321840"/>
                  <a:ext cx="28980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未知"/>
                <p:cNvSpPr/>
                <p:nvPr/>
              </p:nvSpPr>
              <p:spPr>
                <a:xfrm rot="18427200">
                  <a:off x="7839360" y="212400"/>
                  <a:ext cx="2865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ABD2-F957-4CD7-AB00-A83754E914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5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9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7786440" y="4316040"/>
            <a:ext cx="987840" cy="1164600"/>
            <a:chOff x="7786440" y="4316040"/>
            <a:chExt cx="987840" cy="1164600"/>
          </a:xfrm>
        </p:grpSpPr>
        <p:sp>
          <p:nvSpPr>
            <p:cNvPr id="185" name="未知"/>
            <p:cNvSpPr/>
            <p:nvPr/>
          </p:nvSpPr>
          <p:spPr>
            <a:xfrm rot="7320000">
              <a:off x="7778880" y="46465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 rot="7320000">
              <a:off x="7922160" y="4609440"/>
              <a:ext cx="66060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7786440" y="4316040"/>
              <a:ext cx="987840" cy="1164600"/>
              <a:chOff x="7786440" y="4316040"/>
              <a:chExt cx="987840" cy="1164600"/>
            </a:xfrm>
          </p:grpSpPr>
          <p:sp>
            <p:nvSpPr>
              <p:cNvPr id="189" name="未知"/>
              <p:cNvSpPr/>
              <p:nvPr/>
            </p:nvSpPr>
            <p:spPr>
              <a:xfrm rot="7320000">
                <a:off x="7917480" y="5048640"/>
                <a:ext cx="93600" cy="986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 rot="7320000">
                <a:off x="7750800" y="4646520"/>
                <a:ext cx="1058760" cy="5032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 rot="7320000">
                <a:off x="8044920" y="4754880"/>
                <a:ext cx="749160" cy="2847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 rot="7320000">
                <a:off x="8512200" y="4545720"/>
                <a:ext cx="100080" cy="1908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 rot="7320000">
                <a:off x="8146800" y="4745880"/>
                <a:ext cx="306720" cy="1684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C531-E620-4C3D-A0CC-E70443C95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0A08-E6EC-4FFF-928E-1102078CC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460B-9818-4A65-A263-DE47681E6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1CC3-4077-40AE-B2A7-3AF46AD29A2D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25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ftr" idx="26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sldNum" idx="27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E0E5-1F5A-48A5-8CBB-1D3534220ADB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../&#30446;&#24405;1.ppt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QMHST_r1_c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2806560" y="62064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.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幅名扬中外的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1_18191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5"/>
          <p:cNvSpPr/>
          <p:nvPr/>
        </p:nvSpPr>
        <p:spPr>
          <a:xfrm>
            <a:off x="539640" y="2708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北宋时候，有位画家叫张择端。他画了一幅名扬中外的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清明上河图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这幅画长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28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厘米，高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4.8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厘米，画的是北宋都城汴梁热闹的场面。这幅画已经有八百多年的历史了，现在还完整地保存在北京故宫博物院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"/>
          <p:cNvSpPr/>
          <p:nvPr/>
        </p:nvSpPr>
        <p:spPr>
          <a:xfrm>
            <a:off x="2050920" y="1197000"/>
            <a:ext cx="1729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0"/>
          <p:cNvSpPr/>
          <p:nvPr/>
        </p:nvSpPr>
        <p:spPr>
          <a:xfrm>
            <a:off x="6659640" y="1197000"/>
            <a:ext cx="13683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1"/>
          <p:cNvSpPr/>
          <p:nvPr/>
        </p:nvSpPr>
        <p:spPr>
          <a:xfrm>
            <a:off x="6732720" y="2133720"/>
            <a:ext cx="13683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2"/>
          <p:cNvSpPr/>
          <p:nvPr/>
        </p:nvSpPr>
        <p:spPr>
          <a:xfrm flipV="1">
            <a:off x="684360" y="3068640"/>
            <a:ext cx="1584000" cy="1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3059280" y="1989000"/>
            <a:ext cx="287280" cy="287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4"/>
          <p:cNvSpPr/>
          <p:nvPr/>
        </p:nvSpPr>
        <p:spPr>
          <a:xfrm>
            <a:off x="3492360" y="1989000"/>
            <a:ext cx="287640" cy="287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5"/>
          <p:cNvSpPr/>
          <p:nvPr/>
        </p:nvSpPr>
        <p:spPr>
          <a:xfrm>
            <a:off x="3924360" y="1989000"/>
            <a:ext cx="287280" cy="287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6"/>
          <p:cNvSpPr/>
          <p:nvPr/>
        </p:nvSpPr>
        <p:spPr>
          <a:xfrm>
            <a:off x="4356000" y="1989000"/>
            <a:ext cx="287280" cy="287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7"/>
          <p:cNvSpPr/>
          <p:nvPr/>
        </p:nvSpPr>
        <p:spPr>
          <a:xfrm>
            <a:off x="4427640" y="2997360"/>
            <a:ext cx="37447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8"/>
          <p:cNvSpPr/>
          <p:nvPr/>
        </p:nvSpPr>
        <p:spPr>
          <a:xfrm>
            <a:off x="684360" y="4005360"/>
            <a:ext cx="792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9"/>
          <p:cNvSpPr/>
          <p:nvPr/>
        </p:nvSpPr>
        <p:spPr>
          <a:xfrm>
            <a:off x="3419640" y="4005360"/>
            <a:ext cx="4537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0"/>
          <p:cNvSpPr/>
          <p:nvPr/>
        </p:nvSpPr>
        <p:spPr>
          <a:xfrm>
            <a:off x="611280" y="4941720"/>
            <a:ext cx="576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1"/>
          <p:cNvSpPr/>
          <p:nvPr/>
        </p:nvSpPr>
        <p:spPr>
          <a:xfrm>
            <a:off x="4356000" y="4941720"/>
            <a:ext cx="1656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2"/>
          <p:cNvSpPr/>
          <p:nvPr/>
        </p:nvSpPr>
        <p:spPr>
          <a:xfrm>
            <a:off x="2987640" y="5734080"/>
            <a:ext cx="287280" cy="28728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3"/>
          <p:cNvSpPr/>
          <p:nvPr/>
        </p:nvSpPr>
        <p:spPr>
          <a:xfrm>
            <a:off x="3492360" y="5734080"/>
            <a:ext cx="287640" cy="28728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24"/>
          <p:cNvSpPr/>
          <p:nvPr/>
        </p:nvSpPr>
        <p:spPr>
          <a:xfrm>
            <a:off x="3924360" y="5734080"/>
            <a:ext cx="287280" cy="28728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25"/>
          <p:cNvSpPr/>
          <p:nvPr/>
        </p:nvSpPr>
        <p:spPr>
          <a:xfrm>
            <a:off x="4356000" y="5734080"/>
            <a:ext cx="287280" cy="28728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26"/>
          <p:cNvSpPr/>
          <p:nvPr/>
        </p:nvSpPr>
        <p:spPr>
          <a:xfrm>
            <a:off x="4859280" y="5734080"/>
            <a:ext cx="287280" cy="28728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684360" y="476280"/>
            <a:ext cx="792000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自学指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请同学们认真朗读课文，结合画面思考：《清明上河图》都画了些什么？它们有什么特点？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分钟后比谁学得最认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489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" descr="1_18191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5"/>
          <p:cNvSpPr/>
          <p:nvPr/>
        </p:nvSpPr>
        <p:spPr>
          <a:xfrm>
            <a:off x="539640" y="2637000"/>
            <a:ext cx="7920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张择端画这幅画的时候，下了很大功夫。光是画上的人物，就有五百多个：有从乡下来的农民，有撑船的船工，有做各种买卖的生意人，有留着长胡子的道士，有走江湖的医生，有摆小摊的摊贩，有官吏和读书人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三百六十行，哪一行的人都画在上面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6"/>
          <p:cNvSpPr/>
          <p:nvPr/>
        </p:nvSpPr>
        <p:spPr>
          <a:xfrm>
            <a:off x="7164360" y="1197000"/>
            <a:ext cx="7207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7"/>
          <p:cNvSpPr/>
          <p:nvPr/>
        </p:nvSpPr>
        <p:spPr>
          <a:xfrm>
            <a:off x="684360" y="1989000"/>
            <a:ext cx="1800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468360" y="836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楷体_GB2312"/>
              </a:rPr>
              <a:t>名扬中外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9"/>
          <p:cNvSpPr/>
          <p:nvPr/>
        </p:nvSpPr>
        <p:spPr>
          <a:xfrm>
            <a:off x="7524720" y="1989000"/>
            <a:ext cx="432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0"/>
          <p:cNvSpPr/>
          <p:nvPr/>
        </p:nvSpPr>
        <p:spPr>
          <a:xfrm>
            <a:off x="684360" y="2708280"/>
            <a:ext cx="13665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7"/>
          <p:cNvSpPr/>
          <p:nvPr/>
        </p:nvSpPr>
        <p:spPr>
          <a:xfrm>
            <a:off x="5364000" y="2637000"/>
            <a:ext cx="21780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4"/>
          <p:cNvSpPr/>
          <p:nvPr/>
        </p:nvSpPr>
        <p:spPr>
          <a:xfrm>
            <a:off x="5796000" y="263700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5"/>
          <p:cNvSpPr/>
          <p:nvPr/>
        </p:nvSpPr>
        <p:spPr>
          <a:xfrm>
            <a:off x="1258920" y="335772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46"/>
          <p:cNvSpPr/>
          <p:nvPr/>
        </p:nvSpPr>
        <p:spPr>
          <a:xfrm>
            <a:off x="1692360" y="335772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47"/>
          <p:cNvSpPr/>
          <p:nvPr/>
        </p:nvSpPr>
        <p:spPr>
          <a:xfrm>
            <a:off x="5796000" y="335772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48"/>
          <p:cNvSpPr/>
          <p:nvPr/>
        </p:nvSpPr>
        <p:spPr>
          <a:xfrm>
            <a:off x="6227640" y="335772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9"/>
          <p:cNvSpPr/>
          <p:nvPr/>
        </p:nvSpPr>
        <p:spPr>
          <a:xfrm>
            <a:off x="6659640" y="335772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0"/>
          <p:cNvSpPr/>
          <p:nvPr/>
        </p:nvSpPr>
        <p:spPr>
          <a:xfrm>
            <a:off x="3564000" y="4149720"/>
            <a:ext cx="217440" cy="216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51"/>
          <p:cNvSpPr/>
          <p:nvPr/>
        </p:nvSpPr>
        <p:spPr>
          <a:xfrm>
            <a:off x="3924360" y="4149720"/>
            <a:ext cx="217440" cy="216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52"/>
          <p:cNvSpPr/>
          <p:nvPr/>
        </p:nvSpPr>
        <p:spPr>
          <a:xfrm>
            <a:off x="7164360" y="4149720"/>
            <a:ext cx="217440" cy="216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53"/>
          <p:cNvSpPr/>
          <p:nvPr/>
        </p:nvSpPr>
        <p:spPr>
          <a:xfrm>
            <a:off x="755640" y="486900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70"/>
          <p:cNvSpPr/>
          <p:nvPr/>
        </p:nvSpPr>
        <p:spPr>
          <a:xfrm>
            <a:off x="3995640" y="486900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71"/>
          <p:cNvSpPr/>
          <p:nvPr/>
        </p:nvSpPr>
        <p:spPr>
          <a:xfrm>
            <a:off x="4425840" y="486900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72"/>
          <p:cNvSpPr/>
          <p:nvPr/>
        </p:nvSpPr>
        <p:spPr>
          <a:xfrm>
            <a:off x="5796000" y="486900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73"/>
          <p:cNvSpPr/>
          <p:nvPr/>
        </p:nvSpPr>
        <p:spPr>
          <a:xfrm>
            <a:off x="6227640" y="486900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74"/>
          <p:cNvSpPr/>
          <p:nvPr/>
        </p:nvSpPr>
        <p:spPr>
          <a:xfrm>
            <a:off x="7236000" y="486900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75"/>
          <p:cNvSpPr/>
          <p:nvPr/>
        </p:nvSpPr>
        <p:spPr>
          <a:xfrm>
            <a:off x="7596360" y="4869000"/>
            <a:ext cx="217440" cy="2156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6"/>
          <p:cNvSpPr/>
          <p:nvPr/>
        </p:nvSpPr>
        <p:spPr>
          <a:xfrm>
            <a:off x="755640" y="5661000"/>
            <a:ext cx="217440" cy="216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7"/>
          <p:cNvSpPr/>
          <p:nvPr/>
        </p:nvSpPr>
        <p:spPr>
          <a:xfrm>
            <a:off x="2556000" y="5877000"/>
            <a:ext cx="63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句式：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163456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4" descr="renaode shiqu jiedao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5" descr="qingmingshanghetu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1_18191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5"/>
          <p:cNvSpPr/>
          <p:nvPr/>
        </p:nvSpPr>
        <p:spPr>
          <a:xfrm>
            <a:off x="395280" y="2421000"/>
            <a:ext cx="8424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画上的街市可热闹了。街上有挂着各种招牌的店铺、作坊、酒楼、茶馆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走在街上的，是来来往往、形态各异的人：有的骑着马，有的挑着担，有的赶着毛驴，有的推着独轮车，有的悠闲地在街上溜达。画面上的这些人，有的不到一寸，有的甚至只有黄豆那么大。别看画上的人小，每个人在干什么，都能看得清清楚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"/>
          <p:cNvSpPr/>
          <p:nvPr/>
        </p:nvSpPr>
        <p:spPr>
          <a:xfrm>
            <a:off x="1692360" y="1341360"/>
            <a:ext cx="4032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179280" y="836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楷体_GB2312"/>
              </a:rPr>
              <a:t>中心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8"/>
          <p:cNvSpPr/>
          <p:nvPr/>
        </p:nvSpPr>
        <p:spPr>
          <a:xfrm>
            <a:off x="2843280" y="2060640"/>
            <a:ext cx="48243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0"/>
          <p:cNvSpPr/>
          <p:nvPr/>
        </p:nvSpPr>
        <p:spPr>
          <a:xfrm>
            <a:off x="4211640" y="2565360"/>
            <a:ext cx="217440" cy="216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1"/>
          <p:cNvSpPr/>
          <p:nvPr/>
        </p:nvSpPr>
        <p:spPr>
          <a:xfrm>
            <a:off x="4716360" y="2565360"/>
            <a:ext cx="217440" cy="216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2"/>
          <p:cNvSpPr/>
          <p:nvPr/>
        </p:nvSpPr>
        <p:spPr>
          <a:xfrm>
            <a:off x="5219640" y="2565360"/>
            <a:ext cx="217440" cy="216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3"/>
          <p:cNvSpPr/>
          <p:nvPr/>
        </p:nvSpPr>
        <p:spPr>
          <a:xfrm>
            <a:off x="6084720" y="2565360"/>
            <a:ext cx="217800" cy="216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4"/>
          <p:cNvSpPr/>
          <p:nvPr/>
        </p:nvSpPr>
        <p:spPr>
          <a:xfrm>
            <a:off x="6588000" y="2565360"/>
            <a:ext cx="217440" cy="216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5"/>
          <p:cNvSpPr/>
          <p:nvPr/>
        </p:nvSpPr>
        <p:spPr>
          <a:xfrm>
            <a:off x="7020000" y="2565360"/>
            <a:ext cx="217440" cy="216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6"/>
          <p:cNvSpPr/>
          <p:nvPr/>
        </p:nvSpPr>
        <p:spPr>
          <a:xfrm>
            <a:off x="7451640" y="2565360"/>
            <a:ext cx="217440" cy="216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>
            <a:off x="1403280" y="3357720"/>
            <a:ext cx="1224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9"/>
          <p:cNvSpPr/>
          <p:nvPr/>
        </p:nvSpPr>
        <p:spPr>
          <a:xfrm>
            <a:off x="4284720" y="3357720"/>
            <a:ext cx="1224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0"/>
          <p:cNvSpPr/>
          <p:nvPr/>
        </p:nvSpPr>
        <p:spPr>
          <a:xfrm>
            <a:off x="6948360" y="3357720"/>
            <a:ext cx="1224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1"/>
          <p:cNvSpPr/>
          <p:nvPr/>
        </p:nvSpPr>
        <p:spPr>
          <a:xfrm>
            <a:off x="468360" y="4005360"/>
            <a:ext cx="5745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2"/>
          <p:cNvSpPr/>
          <p:nvPr/>
        </p:nvSpPr>
        <p:spPr>
          <a:xfrm>
            <a:off x="2411280" y="4005360"/>
            <a:ext cx="20163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3"/>
          <p:cNvSpPr/>
          <p:nvPr/>
        </p:nvSpPr>
        <p:spPr>
          <a:xfrm>
            <a:off x="468360" y="4653000"/>
            <a:ext cx="7905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0"/>
          <p:cNvSpPr/>
          <p:nvPr/>
        </p:nvSpPr>
        <p:spPr>
          <a:xfrm>
            <a:off x="395280" y="59500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画中人特点：小却清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500720" y="6165720"/>
            <a:ext cx="1079280" cy="216000"/>
          </a:xfrm>
          <a:prstGeom prst="rightArrow">
            <a:avLst>
              <a:gd name="adj1" fmla="val 50000"/>
              <a:gd name="adj2" fmla="val 1249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508720" y="59500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画家技艺高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1547640" y="18900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句式：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35"/>
          <p:cNvSpPr/>
          <p:nvPr/>
        </p:nvSpPr>
        <p:spPr>
          <a:xfrm>
            <a:off x="3780000" y="2565360"/>
            <a:ext cx="217440" cy="216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5" descr="18235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Box 7"/>
          <p:cNvSpPr/>
          <p:nvPr/>
        </p:nvSpPr>
        <p:spPr>
          <a:xfrm>
            <a:off x="1143000" y="600084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热闹的市区街道（尾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5" descr="102_106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内容占位符 3" descr="200651793754-02.gif"/>
          <p:cNvPicPr/>
          <p:nvPr/>
        </p:nvPicPr>
        <p:blipFill>
          <a:blip r:embed="rId1"/>
          <a:stretch/>
        </p:blipFill>
        <p:spPr>
          <a:xfrm>
            <a:off x="0" y="3463920"/>
            <a:ext cx="6786720" cy="3394080"/>
          </a:xfrm>
          <a:prstGeom prst="rect">
            <a:avLst/>
          </a:prstGeom>
          <a:ln w="0">
            <a:noFill/>
          </a:ln>
        </p:spPr>
      </p:pic>
      <p:sp>
        <p:nvSpPr>
          <p:cNvPr id="561" name="TextBox 4"/>
          <p:cNvSpPr/>
          <p:nvPr/>
        </p:nvSpPr>
        <p:spPr>
          <a:xfrm>
            <a:off x="7201080" y="404640"/>
            <a:ext cx="21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汴京郊野的春光（首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5" descr="chunguang.jpg"/>
          <p:cNvPicPr/>
          <p:nvPr/>
        </p:nvPicPr>
        <p:blipFill>
          <a:blip r:embed="rId2"/>
          <a:stretch/>
        </p:blipFill>
        <p:spPr>
          <a:xfrm>
            <a:off x="0" y="0"/>
            <a:ext cx="6858000" cy="3429000"/>
          </a:xfrm>
          <a:prstGeom prst="rect">
            <a:avLst/>
          </a:prstGeom>
          <a:ln w="0">
            <a:noFill/>
          </a:ln>
        </p:spPr>
      </p:pic>
      <p:sp>
        <p:nvSpPr>
          <p:cNvPr id="563" name="TextBox 6"/>
          <p:cNvSpPr/>
          <p:nvPr/>
        </p:nvSpPr>
        <p:spPr>
          <a:xfrm>
            <a:off x="7072200" y="4071960"/>
            <a:ext cx="1785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繁忙的汴河码头（中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4" descr="张择端像"/>
          <p:cNvPicPr/>
          <p:nvPr/>
        </p:nvPicPr>
        <p:blipFill>
          <a:blip r:embed="rId1"/>
          <a:stretch/>
        </p:blipFill>
        <p:spPr>
          <a:xfrm>
            <a:off x="0" y="0"/>
            <a:ext cx="38448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5"/>
          <p:cNvSpPr/>
          <p:nvPr/>
        </p:nvSpPr>
        <p:spPr>
          <a:xfrm>
            <a:off x="4267080" y="380880"/>
            <a:ext cx="4572000" cy="1595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作者张择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北宋画家，字正道，东武（今山东诸城）人。早年游学汴京（今河南开封），后习绘画。宋徽宗时供职翰林图画院。专工界画宫室，尤擅绘舟车、市肆、桥梁、街道、城郭。存世作品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清明上河图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卷，描绘当年汴京近郊在清明时节社会各阶层的生活景象，真实生动，是一件具有重要历史价值的优秀风俗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6" descr="button10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86800" y="6400800"/>
            <a:ext cx="38088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5" descr="102_106_4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6360" y="909720"/>
            <a:ext cx="907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《清明上河图》中还有什么画面呢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155520" y="81000"/>
            <a:ext cx="88930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最有意思的是桥北头的情景：一个人骑着马，正往桥下走。 因为人太多，眼看就要碰上对面来的一乘轿子。就在这个紧急时刻，那个骑马人一下子拽住了马笼头，这才没碰上那乘轿子。不过，这么一来，倒把马右边的两头小毛驴吓得又踢又跳。  站在桥栏杆边欣赏风景的人，被小毛驴惊扰了，连忙回过头来赶小毛驴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你看，张择端画的画，是多么传神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987280" y="105264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850920" y="33336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8532720" y="333360"/>
            <a:ext cx="14472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724360" y="333360"/>
            <a:ext cx="14472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5940000" y="105264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8748360" y="105264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1979280" y="177336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956360" y="177336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850920" y="177336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2842920" y="2492280"/>
            <a:ext cx="144360" cy="505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724360" y="2492280"/>
            <a:ext cx="144720" cy="505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457520" y="2492280"/>
            <a:ext cx="144360" cy="505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2050920" y="3176640"/>
            <a:ext cx="14472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6156000" y="3933720"/>
            <a:ext cx="144360" cy="505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292360" y="602136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050920" y="3933720"/>
            <a:ext cx="144720" cy="505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850920" y="3933720"/>
            <a:ext cx="144360" cy="505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092720" y="400536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484360" y="4581360"/>
            <a:ext cx="144720" cy="505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042560" y="537372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4284360" y="465300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8027640" y="465300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3850920" y="530064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5651280" y="537372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2987280" y="6021360"/>
            <a:ext cx="14436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08000" y="765000"/>
            <a:ext cx="892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齐读第五自然段，思考：第五自然段在文中起了什么作用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1_18191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868680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清明上河图</a:t>
            </a: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我们看到了八百多年以前的古都风貌，看到了当时普通百姓的生活情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4"/>
          <p:cNvSpPr/>
          <p:nvPr/>
        </p:nvSpPr>
        <p:spPr>
          <a:xfrm>
            <a:off x="5651640" y="3213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5"/>
          <p:cNvSpPr/>
          <p:nvPr/>
        </p:nvSpPr>
        <p:spPr>
          <a:xfrm>
            <a:off x="4602240" y="3429000"/>
            <a:ext cx="1008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5003640" y="342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指北宋都城汴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684360" y="5373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楷体_GB2312"/>
              </a:rPr>
              <a:t>作用：总结全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612720" y="476280"/>
            <a:ext cx="813600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自学指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请同学们认真朗读课文，思考：为什么说《清明上河图》是一幅名扬中外的画？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分钟后比谁得回答最精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6267600" y="6537240"/>
            <a:ext cx="2841480" cy="276120"/>
            <a:chOff x="6267600" y="6537240"/>
            <a:chExt cx="2841480" cy="276120"/>
          </a:xfrm>
        </p:grpSpPr>
        <p:pic>
          <p:nvPicPr>
            <p:cNvPr id="609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88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60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" descr="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8320" y="65372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10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10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1_181915_1"/>
          <p:cNvPicPr/>
          <p:nvPr/>
        </p:nvPicPr>
        <p:blipFill>
          <a:blip r:embed="rId1"/>
          <a:stretch/>
        </p:blipFill>
        <p:spPr>
          <a:xfrm>
            <a:off x="3168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8680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清明上河图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仅有艺术价值，而且有很高的历史价值，使我们看到了八百多年以前的古都风貌，看到了当时普通百姓的生活情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4"/>
          <p:cNvSpPr/>
          <p:nvPr/>
        </p:nvSpPr>
        <p:spPr>
          <a:xfrm>
            <a:off x="5651640" y="3213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画名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作者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年代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大小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画面内容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历史价值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959120" y="1916280"/>
            <a:ext cx="26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《清明上河图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392200" y="2641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50240" y="2637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张择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76560" y="2492280"/>
            <a:ext cx="15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张择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124000" y="2924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北宋时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203920" y="364500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长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528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厘米，高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24.8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06320" y="873000"/>
            <a:ext cx="16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  <a:ea typeface="黑体"/>
              </a:rPr>
              <a:t>   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资料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017680" y="43117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人物众多、街市热闹和画面传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394600" y="5084640"/>
            <a:ext cx="4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《清明上河图》使我们看到了八百年前的古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风貌及当时普通百姓的生活情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41460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58920" y="765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  <a:ea typeface="楷体_GB2312"/>
              </a:rPr>
              <a:t>   </a:t>
            </a:r>
            <a:r>
              <a:rPr b="1" lang="en-US" sz="4400" spc="-1" strike="noStrike">
                <a:solidFill>
                  <a:srgbClr val="3399ff"/>
                </a:solidFill>
                <a:latin typeface="Arial"/>
                <a:ea typeface="楷体_GB2312"/>
              </a:rPr>
              <a:t>20*  </a:t>
            </a:r>
            <a:r>
              <a:rPr b="1" lang="zh-CN" sz="4400" spc="-1" strike="noStrike">
                <a:solidFill>
                  <a:srgbClr val="3399ff"/>
                </a:solidFill>
                <a:latin typeface="Arial"/>
                <a:ea typeface="楷体_GB2312"/>
              </a:rPr>
              <a:t>一幅名扬中外的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95280" y="2590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人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295280" y="3459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街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95280" y="4297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132000" y="2565360"/>
            <a:ext cx="26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多  形态各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700360" y="34290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热闹   清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733920" y="4297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传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867280" y="2743200"/>
            <a:ext cx="152640" cy="1981080"/>
          </a:xfrm>
          <a:custGeom>
            <a:avLst/>
            <a:gdLst>
              <a:gd name="textAreaLeft" fmla="*/ 0 w 152640"/>
              <a:gd name="textAreaRight" fmla="*/ 55080 w 1526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rId2" action="ppaction://hlinksldjump"/>
          </p:cNvPr>
          <p:cNvSpPr/>
          <p:nvPr/>
        </p:nvSpPr>
        <p:spPr>
          <a:xfrm>
            <a:off x="6248520" y="2997360"/>
            <a:ext cx="2057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古都风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生活情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1080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《 清明上河图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是我国最大的古代风俗画。北宋张择端作。描绘北宋京城汴梁及汴河两岸的风光，是一幅写实性很强的作品。所绘景物都具有典型代表性，时代气息浓厚，是了解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世纪中国城市生活极重要的形象资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8744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图以不断移动视点的办法来摄取景物，大到原野、河流、城廓，细到舟车上的钉铆、摊贩上的小商品、市招上的文字，和谐的组成统一整体，段落分明，结构严谨。画中人物多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余人，但衣着、神情、活动都各有所异，极富情趣。还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匹牲畜；车轿二十多辆，大小船只二十多艘，是我国绘画史上的无价之宝。它曾经五次进入宫廷，四次被盗出宫，演绎出无数的传奇故事，现藏故宫博物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9898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能正确、流利、有感情地朗读课文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对照画面，了解课文描写了画面的哪些内容，了解古画《清明上河图》的历史价值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440000" y="914400"/>
            <a:ext cx="7380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学指导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请同学们认真朗读课文，遇到不认识的字利用工具书或同桌解决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分钟后比赛朗读，比谁课文读得正确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、流利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4920" y="22208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6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1280" y="2060640"/>
            <a:ext cx="74898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biàn            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cún    ch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ē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ng       t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ā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f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汴 梁    保 存     撑 船    摊 贩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ì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           lǘ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        y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ō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u          zhu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à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官 吏    毛 驴     悠 闲    拽 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ǎ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o            t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惊 扰</a:t>
            </a:r>
            <a:r>
              <a:rPr b="0" lang="zh-CN" sz="1800" spc="-1" strike="noStrike">
                <a:solidFill>
                  <a:srgbClr val="000099"/>
                </a:solidFill>
                <a:latin typeface="Tahoma"/>
              </a:rPr>
              <a:t>          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形态各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17560" y="324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32000" y="1052640"/>
            <a:ext cx="54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正确读出下列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9080" y="32464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4417560" y="324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84200" y="2209680"/>
            <a:ext cx="68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2133720"/>
            <a:ext cx="8280360" cy="4664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zu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ō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作坊）                            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li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ū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溜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作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溜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zuò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作业）                         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liù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一溜烟）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chéng 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乘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shèng  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一乘轿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340000" y="292428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987640" y="5373720"/>
            <a:ext cx="554040" cy="625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1280" y="2924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00360" y="378936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16000" y="2276640"/>
            <a:ext cx="216000" cy="158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116000" y="450864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96000" y="2276640"/>
            <a:ext cx="216000" cy="158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40360" y="10191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正确读出下列多音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08000" y="11095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自由读第一自然段，思考：这一段写了什么内容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0:20:36Z</dcterms:created>
  <dc:creator>微软用户</dc:creator>
  <dc:description/>
  <cp:keywords/>
  <dc:language>en-US</dc:language>
  <cp:lastModifiedBy>微软用户</cp:lastModifiedBy>
  <dcterms:modified xsi:type="dcterms:W3CDTF">2014-11-05T02:12:09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